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98436"/>
        <c:axId val="31952497"/>
      </c:barChart>
      <c:catAx>
        <c:axId val="96798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2497"/>
        <c:crosses val="autoZero"/>
        <c:auto val="1"/>
        <c:lblAlgn val="ctr"/>
        <c:lblOffset val="100"/>
        <c:noMultiLvlLbl val="0"/>
      </c:catAx>
      <c:valAx>
        <c:axId val="31952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98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2C6-C672-419B-AEDD-818D1873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D7D-D52C-472D-B354-7C635E7F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7B2-2D9B-44BF-B14F-6D3CA630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799-90D2-4C44-889A-6FE0E370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C2F-0969-4874-A028-B3635E49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18F-8B4F-40E7-93F7-142D2AB6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D83-9ABB-41AD-9EA4-583D6AC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A2D-B5F5-4BFA-ACD9-714DA7F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F20-7256-4671-84C6-0DED60B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244-4ACB-4216-BBA1-487E616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ACA-A48E-46F3-8A3A-792E846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44D-839E-4A00-B5E4-52385F3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453DE-9D50-4A44-9240-D0273B6AD5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