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1012"/>
        <c:axId val="65048933"/>
      </c:barChart>
      <c:catAx>
        <c:axId val="3281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48933"/>
        <c:crosses val="autoZero"/>
        <c:auto val="1"/>
        <c:lblAlgn val="ctr"/>
        <c:lblOffset val="100"/>
        <c:noMultiLvlLbl val="0"/>
      </c:catAx>
      <c:valAx>
        <c:axId val="65048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1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657-A21A-497A-A2B0-6E52F49B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836-DF71-4046-9DAF-BEA90BFD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E41-F60D-4321-8CE0-FC6A1DE0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E93-5310-43DA-9AFB-AA453F17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662-2A6D-4281-969A-075E2A98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2B3-4AD4-475D-88BF-FED837E4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4A1-DD79-49A7-BD6E-96899FB9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F4D-3117-45AF-A778-897058C8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D35-A649-4EA3-8167-0AC152D0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079-BC6A-43C0-B45F-4D2725C4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EF6-1229-4D52-89C5-62C5E038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966-BE8A-47C7-B205-0C0B1D4F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2BEC9-387D-444D-9CB1-60E857C005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