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193588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9A6E93-9ED2-46C0-90DC-D11118684A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A89B1A-B674-489C-9331-D83C58A1BF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13090-4D04-4334-B2AE-CF74C8B2B30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39344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7949160" y="182520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83808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39344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7949160" y="4098240"/>
            <a:ext cx="33858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A8D8DB-C236-4385-897F-2767E0A3F0B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0000"/>
              </a:lnSpc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2765A5-101C-4EB5-8999-0C71ABC0AA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67227-46FA-40EF-A82C-1BEE22DEA5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D006B2-6F0A-4A8A-8861-11160A0A92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DA7D0F-B890-44EF-976A-0A5836F1129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838080" y="365040"/>
            <a:ext cx="10515600" cy="6145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0000"/>
              </a:lnSpc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E66CD8-9598-46B1-B950-D3DAFA385E7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BE606E-B08F-42BE-B2C0-050D662430D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226560" y="409824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14A47C-EC10-4215-81ED-598E55096C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83808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226560" y="1825200"/>
            <a:ext cx="513144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838080" y="4098240"/>
            <a:ext cx="10515600" cy="2075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90000"/>
              </a:lnSpc>
              <a:spcBef>
                <a:spcPts val="10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93FF7-7F14-43CD-A2B8-0EA1381559C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838080" y="365040"/>
            <a:ext cx="10515600" cy="1325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 Light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 Light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838080" y="1825200"/>
            <a:ext cx="10515600" cy="43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1" marL="6858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lnSpc>
                <a:spcPct val="90000"/>
              </a:lnSpc>
              <a:spcBef>
                <a:spcPts val="10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8380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4038480" y="6356520"/>
            <a:ext cx="41148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8610480" y="6356520"/>
            <a:ext cx="274320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100E7CB-E745-4AFA-BCDB-E8780CDD5D32}" type="slidenum">
              <a:rPr b="0" lang="en-US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Immagine 1" descr=""/>
          <p:cNvPicPr/>
          <p:nvPr/>
        </p:nvPicPr>
        <p:blipFill>
          <a:blip r:embed="rId1"/>
          <a:stretch/>
        </p:blipFill>
        <p:spPr>
          <a:xfrm>
            <a:off x="3949560" y="3048120"/>
            <a:ext cx="4407120" cy="1244520"/>
          </a:xfrm>
          <a:prstGeom prst="rect">
            <a:avLst/>
          </a:prstGeom>
          <a:ln w="0">
            <a:noFill/>
          </a:ln>
        </p:spPr>
      </p:pic>
      <p:pic>
        <p:nvPicPr>
          <p:cNvPr id="42" name="Rettangolo 2" descr=""/>
          <p:cNvPicPr/>
          <p:nvPr/>
        </p:nvPicPr>
        <p:blipFill>
          <a:blip r:embed="rId2"/>
          <a:stretch/>
        </p:blipFill>
        <p:spPr>
          <a:xfrm>
            <a:off x="3987720" y="2171880"/>
            <a:ext cx="4267440" cy="1879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6-15T15:58:44Z</dcterms:created>
  <dc:creator>Alfio Lazzaro</dc:creator>
  <dc:description/>
  <dc:language>en-US</dc:language>
  <cp:lastModifiedBy>Alfio Lazzaro</cp:lastModifiedBy>
  <dcterms:modified xsi:type="dcterms:W3CDTF">2019-05-13T06:45:15Z</dcterms:modified>
  <cp:revision>1</cp:revision>
  <dc:subject/>
  <dc:title>Presentazione standard di PowerPoint</dc:title>
</cp:coreProperties>
</file>